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6749-4FA3-4D6D-8F05-2EED54589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49B0-4259-40C3-ACE7-6F190E7A9A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3940-E2C9-400A-95EB-431498B1E5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28EE-0CBB-48EF-8433-E8B0BB447D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7B97-6A50-4982-97EB-2525DC74EE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A2FF-5EAB-4ACC-99AD-7EFC2B3C7C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A873-65B4-4245-AB58-679B813AED6B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all of your documents to the items abov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2B66-8D74-4869-A2EF-9ECAFBCB80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6E8E-CDC8-4743-87C9-EEDB8373C9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D9F1-7A73-4F07-BE12-421A2B39B1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FAB3-F31E-4BCC-8F7A-E5B7C2F00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1F03-D560-481B-AC04-8980D3C1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515E-C40C-44B7-953B-C3401E3B9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1E34-93D7-497A-A96C-F27CB8A85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A10B-EA15-460B-AA0E-A40760E8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34F1-2F70-4552-8361-339C4298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9D5A-5178-4C69-BD4F-D2F692DB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1130-B005-4357-98E2-EC3E277A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BCDA-53F2-4C83-B3D2-2EE500E1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B2BA-7ED5-4641-81FB-439EDB7C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9980-AAEA-4DEA-8C16-11D3ADFA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CAA8-940C-48BD-B6FF-6DAED653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54FC-9377-4D70-AD94-EE037BEF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0233-DD8D-4484-86E7-07EF290E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AA60-32A2-472E-978A-E3383285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F0F8-B772-4999-9C45-AC4E133B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8BFB-9780-4C2C-9574-4C4D84259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8E5B-AC7D-4DFC-8270-04A2773D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B0EB-A88F-4621-877F-9935F066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7E44-2990-4917-AC85-2CA40864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F9D2-51A1-470A-8D56-292E9539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32F3-7C7E-4748-B348-DB8700BE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9A5B-2BBF-466B-A5A6-99EDDFAA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8660-4E7E-40DF-8E5B-E85A5E7B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D790-D6C2-431B-9A60-AEDAFCC070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A8F7-15CB-49A9-9A78-70C61B404A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Incursiune in lumea atomului”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vatare prin metoda proiectelo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Dreptunghi 4"/>
          <p:cNvSpPr/>
          <p:nvPr/>
        </p:nvSpPr>
        <p:spPr>
          <a:xfrm>
            <a:off x="1523880" y="5335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tel Teach –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struirea în societatea cunoaşterii</a:t>
            </a:r>
            <a:br>
              <a:rPr sz="1800"/>
            </a:b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Turda  , 20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457200" y="304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rmeaza prezentarea unor argumente pro si contra pentru a primi un raspuns la intrebarea “Atomul ne este prieten sau dusman?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5" descr="Vedeţi imaginea la dimensiunea completă"/>
          <p:cNvPicPr/>
          <p:nvPr/>
        </p:nvPicPr>
        <p:blipFill>
          <a:blip r:embed="rId1"/>
          <a:stretch/>
        </p:blipFill>
        <p:spPr>
          <a:xfrm>
            <a:off x="2209680" y="1219320"/>
            <a:ext cx="4648320" cy="41907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7"/>
          <p:cNvSpPr/>
          <p:nvPr/>
        </p:nvSpPr>
        <p:spPr>
          <a:xfrm>
            <a:off x="3509640" y="4952880"/>
            <a:ext cx="19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lozie nuclear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33520" y="56386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ltima ora din aceasta unitate de invatare este destinat evaluarii finale. Elevii isi prezinta lucrarile (prezentari powerpoint, postere, afise, culegere de probleme, referate, pliante etc.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cursiune in lumea atomulu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44193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nsata de prof. Martini Erik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dresata elevilor din clasa a VII-a 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coala cu clasele I-VIII Moldovenesti”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. Moldovenesti, jud. Cluj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4" descr="hydrogenanim"/>
          <p:cNvPicPr/>
          <p:nvPr/>
        </p:nvPicPr>
        <p:blipFill>
          <a:blip r:embed="rId1"/>
          <a:stretch/>
        </p:blipFill>
        <p:spPr>
          <a:xfrm>
            <a:off x="2286000" y="1828800"/>
            <a:ext cx="4267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nitatea de invatare: atomul -componenta a materiei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4" descr="cosmos"/>
          <p:cNvPicPr/>
          <p:nvPr/>
        </p:nvPicPr>
        <p:blipFill>
          <a:blip r:embed="rId1"/>
          <a:stretch/>
        </p:blipFill>
        <p:spPr>
          <a:xfrm>
            <a:off x="609480" y="1905120"/>
            <a:ext cx="3810240" cy="40384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>
            <a:off x="4724280" y="3429000"/>
            <a:ext cx="391824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 ne amintim ca cercetarea alcatuirii lumii este una dintre cele mai marete si mai nobile probleme puse de natura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Galileo Galiliei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ccecff"/>
                </a:solidFill>
                <a:latin typeface="Arial"/>
              </a:rPr>
              <a:t>Intrebări-cheie ale curriculumului</a:t>
            </a:r>
            <a:r>
              <a:rPr b="0" lang="ro-RO" sz="4000" spc="-1" strike="noStrike">
                <a:solidFill>
                  <a:srgbClr val="ccec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04920" y="1905120"/>
          <a:ext cx="8229600" cy="4557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Întrebare esenţial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utem patrunde intr-o lume invizibila de particole si energii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Întrebările unitatăţii de învăţa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 lasa atomii cunoscuti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ista organizare pe nivel microscopic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imistii pot fi stapanii atomilor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3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Întrebări de conţin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e descoperiri ne-au apropiat de atomi?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e structura are atomul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e stim despre particolele elementare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e importanta au Z si A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re sunt asemanarile si deosebirile intre atomi,izotopi si elemente chimice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e legatura exista intre structura atomilor si locul ocupat in sistemul periodic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tomii ne sunt prieteni sau dusmani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mpetente specifi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1. </a:t>
            </a:r>
            <a:r>
              <a:rPr b="1" lang="ro-RO" sz="1400" spc="-1" strike="noStrike">
                <a:solidFill>
                  <a:srgbClr val="ffffff"/>
                </a:solidFill>
                <a:latin typeface="Verdana"/>
              </a:rPr>
              <a:t>Investigarea comportării unor  sisteme chimice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*</a:t>
            </a:r>
            <a:r>
              <a:rPr b="0" lang="ro-RO" sz="1400" spc="-1" strike="noStrike">
                <a:solidFill>
                  <a:srgbClr val="ffffff"/>
                </a:solidFill>
                <a:latin typeface="Verdana"/>
              </a:rPr>
              <a:t>analizarea, interpretarea observaţiilor/datelor obţinute prin activitate investigativa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*</a:t>
            </a:r>
            <a:r>
              <a:rPr b="0" lang="ro-RO" sz="1400" spc="-1" strike="noStrike">
                <a:solidFill>
                  <a:srgbClr val="ffffff"/>
                </a:solidFill>
                <a:latin typeface="Verdana"/>
              </a:rPr>
              <a:t>formularea de concluzii şi de generalizări pentru punerea în evidenţă a proprietăţilor atomilor si a elementelor chimice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1" lang="ro-RO" sz="1400" spc="-1" strike="noStrike">
                <a:solidFill>
                  <a:srgbClr val="ffffff"/>
                </a:solidFill>
                <a:latin typeface="Verdana"/>
              </a:rPr>
              <a:t>Rezolvarea de probleme în scopul stabilirii unor corelaţii relevante, demonstrând raţionamente deductive şi inductive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*</a:t>
            </a:r>
            <a:r>
              <a:rPr b="0" lang="ro-RO" sz="1400" spc="-1" strike="noStrike">
                <a:solidFill>
                  <a:srgbClr val="ffffff"/>
                </a:solidFill>
                <a:latin typeface="Verdana"/>
              </a:rPr>
              <a:t>aplicarea regulilor/legilor în scopul rezolvării de probleme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3. </a:t>
            </a:r>
            <a:r>
              <a:rPr b="1" lang="ro-RO" sz="1400" spc="-1" strike="noStrike">
                <a:solidFill>
                  <a:srgbClr val="ffffff"/>
                </a:solidFill>
                <a:latin typeface="Verdana"/>
              </a:rPr>
              <a:t>Comunicarea înţelegerii conceptelor în rezolvarea de probleme, în formularea explicaţiilor, în conducerea investigaţiilor şi în raportarea rezultatelor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*</a:t>
            </a:r>
            <a:r>
              <a:rPr b="0" lang="ro-RO" sz="1400" spc="-1" strike="noStrike">
                <a:solidFill>
                  <a:srgbClr val="ffffff"/>
                </a:solidFill>
                <a:latin typeface="Verdana"/>
              </a:rPr>
              <a:t>comunicarea sub formă scrisă/orală a rezultatelor unui demers de investigare folosind terminologia ştiinţifică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*</a:t>
            </a:r>
            <a:r>
              <a:rPr b="0" lang="ro-RO" sz="1400" spc="-1" strike="noStrike">
                <a:solidFill>
                  <a:srgbClr val="ffffff"/>
                </a:solidFill>
                <a:latin typeface="Verdana"/>
              </a:rPr>
              <a:t>prezentarea rezultatelor unui demers de investigare folosind terminologia ştiinţifică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*</a:t>
            </a:r>
            <a:r>
              <a:rPr b="0" lang="ro-RO" sz="1400" spc="-1" strike="noStrike">
                <a:solidFill>
                  <a:srgbClr val="ffffff"/>
                </a:solidFill>
                <a:latin typeface="Verdana"/>
              </a:rPr>
              <a:t>utilizarea surselor bibliografice referitoare la istoricul descoperirii unor elemente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*</a:t>
            </a:r>
            <a:r>
              <a:rPr b="0" lang="ro-RO" sz="1400" spc="-1" strike="noStrike">
                <a:solidFill>
                  <a:srgbClr val="ffffff"/>
                </a:solidFill>
                <a:latin typeface="Verdana"/>
              </a:rPr>
              <a:t>comunicarea rezultatelor unui demers investigativ cu ajutorul Internetului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4. </a:t>
            </a:r>
            <a:r>
              <a:rPr b="1" lang="ro-RO" sz="1400" spc="-1" strike="noStrike">
                <a:solidFill>
                  <a:srgbClr val="ffffff"/>
                </a:solidFill>
                <a:latin typeface="Verdana"/>
              </a:rPr>
              <a:t>Evaluarea consecinţelor proceselor şi acţiunii energiei nucleare asupra propriei persoane şi asupra mediului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*</a:t>
            </a:r>
            <a:r>
              <a:rPr b="0" lang="ro-RO" sz="1400" spc="-1" strike="noStrike">
                <a:solidFill>
                  <a:srgbClr val="ffffff"/>
                </a:solidFill>
                <a:latin typeface="Verdana"/>
              </a:rPr>
              <a:t>aprecierea avantajelor şi a dezavantajelor utilizării energiei nuclea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*</a:t>
            </a:r>
            <a:r>
              <a:rPr b="0" lang="ro-RO" sz="1400" spc="-1" strike="noStrike">
                <a:solidFill>
                  <a:srgbClr val="ffffff"/>
                </a:solidFill>
                <a:latin typeface="Verdana"/>
              </a:rPr>
              <a:t>identificarea unor agenţi poluanţi ai apei, solului, aerului şi a căilor de prevenire a poluării radioactive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52280" y="2286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715000" y="2514600"/>
            <a:ext cx="2133720" cy="916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  <a:ea typeface="Arial"/>
              </a:rPr>
              <a:t>Prezentare din perspectiva elevului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066680" y="3733920"/>
            <a:ext cx="1828800" cy="368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  <a:ea typeface="Arial"/>
              </a:rPr>
              <a:t>Proiecte elev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200400" y="5257800"/>
            <a:ext cx="2286000" cy="368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EVALUAR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066680" y="2514600"/>
            <a:ext cx="1905120" cy="642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  <a:ea typeface="Arial"/>
              </a:rPr>
              <a:t>Prezentarea proiectului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429000" y="1600200"/>
            <a:ext cx="1219320" cy="368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PLIAN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5791320" y="4343400"/>
            <a:ext cx="18288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Resurs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  <a:ea typeface="Arial"/>
              </a:rPr>
              <a:t> pentru elevi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3108240" y="685800"/>
            <a:ext cx="215748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Verdana"/>
                <a:ea typeface="Arial"/>
              </a:rPr>
              <a:t>Planul unitati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20" descr="cosmos"/>
          <p:cNvPicPr/>
          <p:nvPr/>
        </p:nvPicPr>
        <p:blipFill>
          <a:blip r:embed="rId1"/>
          <a:stretch/>
        </p:blipFill>
        <p:spPr>
          <a:xfrm>
            <a:off x="3886200" y="3276720"/>
            <a:ext cx="66204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urata proiectului: 8 or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chipa de proiect” : colectivul clasei a VII-a A impartita in trei grup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Dreptunghi 5"/>
          <p:cNvSpPr/>
          <p:nvPr/>
        </p:nvSpPr>
        <p:spPr>
          <a:xfrm>
            <a:off x="457200" y="220968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ima ora este destinata prezentarii metodei proiectului, trezirii interesului pentru studiului aprofundat al atomilor, dar si aflarii nivelului de cunostinte al elevilor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Dreptunghi 6"/>
          <p:cNvSpPr/>
          <p:nvPr/>
        </p:nvSpPr>
        <p:spPr>
          <a:xfrm>
            <a:off x="457200" y="32767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doua activitate este destinata celor care ne-au adus mai aproape de atomi. Elevii se documenteaza si pregatesc fise biografice sau prezentari ale vietii si a activitatii acestori savanti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Dreptunghi 7"/>
          <p:cNvSpPr/>
          <p:nvPr/>
        </p:nvSpPr>
        <p:spPr>
          <a:xfrm>
            <a:off x="533520" y="43434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n ora a treia elevii “patrund” in interiorul atomului folosind mai multe metode : brainstorming, modelare, vizionari de powerpointuri, metoda ciorchinelor, turul galerie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Picture 5" descr="DSC03962"/>
          <p:cNvPicPr/>
          <p:nvPr/>
        </p:nvPicPr>
        <p:blipFill>
          <a:blip r:embed="rId1"/>
          <a:stretch/>
        </p:blipFill>
        <p:spPr>
          <a:xfrm>
            <a:off x="2362320" y="1219320"/>
            <a:ext cx="40384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rupele de elevi pregatesc prezentari powerpoint despre structura atomilor pe care le prezinta in cabinetul AeL si se vor posta pe wiki-ul clasei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http://atomulme.wikispaces.com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Dreptunghi 5"/>
          <p:cNvSpPr/>
          <p:nvPr/>
        </p:nvSpPr>
        <p:spPr>
          <a:xfrm>
            <a:off x="762120" y="19051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ctivitatea urmatoare este destinata descrierii calitative si cantitative al atomilor si rezolvarii unor probleme legate de masa atomica, molul de atomi, numarul lui Avogadro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ctivitatea se finalizeaza cu realizarea unei culegeri de probleme care se posteaza pe wiki si se listeaza pentru portofoliile personal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457200" y="4343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ecare elev isi alege un izotop sau un element chimic pe care il studieaza pe parcursul a doua saptamani. Din datele culese  realizeaza prezentari  powerpoint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5-25T23:09:49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